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jpeg" ContentType="image/jpeg"/>
  <Override PartName="/ppt/media/image35.png" ContentType="image/png"/>
  <Override PartName="/ppt/media/image20.png" ContentType="image/png"/>
  <Override PartName="/ppt/media/image9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6E5-E15E-45DD-9C22-6DC01B5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67E-6AFE-43EB-AD72-5B5D64A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F43-CD68-4596-9BB3-61A011AE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3F6-2141-4235-B6AC-A6C8559D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9DE-FA88-4AEA-AB6F-73DAE9E8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ACF7-DEC5-43C5-A8E1-67E5B910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0B3-5D9B-4E19-A7E5-32C9AE2F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3B43-39F4-481E-A05A-F1D0740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D77E-A728-4EA2-9416-95AC916A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0DB9-6ADF-4D22-A723-529BA48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A60-B3FF-4F79-95C3-1EEE53B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7B8-51D2-4197-B9AF-091974A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FCB-EB57-41B9-9FFE-3B538097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2F7A-2A04-4FF6-A64D-B02A1DD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A58F-FF88-4D69-A3C9-36DFC77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A1F0-2F03-4A02-826A-C102327B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D69-FF8D-49F1-BD81-4B044C53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397F-5627-4EF1-8E85-CD163EB1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079B-BAFA-4FEE-9B4F-043617F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8AAC-7AD1-4508-A730-7A68BEC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E184-6E76-43F7-A22A-7E39FCB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AEBF-041C-4174-8BC6-EDA7A790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D1F-A043-4360-8753-E40FB6D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42BB-15A0-4180-A641-7507025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A357-F596-4BE5-AA93-BF373EE5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6F5E-7E29-442B-94B4-530DCB2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7B81-4670-4EB3-AC4A-00940778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64B4-E5DB-47B9-932C-9A19648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D79B-55D3-414B-8381-D5E7B844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0BAB-380D-4A46-9549-8C4D13F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8AF7-39A6-4D54-A0A5-04666A30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4496-92CC-4870-9C97-71CA24D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5CE7-A9CA-497D-9777-CFE0304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EFE-295A-45F7-B7AF-73FBAAF3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A689-2105-435A-B54F-8B86672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335A-F0C9-42E7-989E-BBB9E1C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E525-F3F1-4544-B742-3637C58E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8817-C8D1-4495-B43D-F265924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4B01-E54F-4284-B347-40511BF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F668-A7F6-4E0B-812A-49FF4EB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FAB2-49F9-464D-8E96-B9CA21D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D40C-DB96-4E46-87C5-59324A2D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877E-E4CF-4140-B3BC-136CD6AC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6E5F-A116-447A-8E83-AD09E06E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AD1-9A61-48DE-A1A2-2F857E22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9154-79A2-4A41-8CCB-C2C97430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F081-F708-4447-82FC-14325A2A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750F-ADC2-4B07-82AA-EA4A55D9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1840-985A-4F99-A6E5-61581DA5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69059-5587-4469-830B-C23AA63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F78E-6D0A-4ADB-A6F4-1FD4043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8C4F-1DF2-4F95-8429-715B11C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306E-CA80-418C-A9AF-9375A07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3FF5-E55C-4D65-A18D-6FD36D5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458D-8FEF-4AA7-BDA4-2ECAB95B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070-07E4-4067-B3A3-18CF6FE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BE1A-0889-46D3-9AB3-D2E1DD61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97CD-0BDE-46C9-AA47-F7C64CE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36DF-A500-4898-9432-F1265D56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3D32-6491-4380-9F62-7BCD662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9AF1-7EC7-4A8D-92D6-3F538E7F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F1B0-A454-4D7B-AAE0-AA89DA0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83A8F-0F17-4762-BD42-3F486A1B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A2EC-C8AB-4C68-8F97-56243C1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FD89-D79A-4B34-A957-9D2D4DB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0424-E06F-445E-B64E-11E15EB7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1D8-2726-48F3-8C09-E1A3B0C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AE6B-79B6-43E4-A0F9-C86BA292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784F1-5C82-4C42-B9A9-FACA7AEF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8AA5A-9600-49C4-879D-598B1ED6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2950-9CAE-475F-9458-D60811B6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3C40-0620-4509-8FAF-2B2568F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AEBD-1A3D-4AFD-B425-AB2113C3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94F79-0C33-41C5-8023-5CF14D89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CF95D-5DF3-4F7F-BE1D-A28C283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EB0C-C715-4A25-BB92-947E6DC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C950-A91F-4C59-AD68-BD0B9BA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023-6DB5-4BAC-A6AF-E6EC0081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0F35-F785-494A-B972-F1D68DC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4AB8-B847-416D-A604-BDD6A5D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4CA1-6AE7-4494-BC7A-CECCFAE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9A6F9-EEA7-4EA7-B2FC-972786D2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5416-C07B-4B6D-84DA-C2D95F92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A63-FD76-4B4D-82D4-BC31CB5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385-8B66-450B-9AD3-1EC35D3E91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B2E-F272-410F-BF44-8291DB69CB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BD8-6D37-4C3E-9976-53F192BFE7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2F3-8FD3-4E83-8484-3CD6F6BE1E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1E89-53AA-4E3D-9879-AF97AD61D0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A8D-CD1B-4844-B5AE-E63E53391D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E11-E280-4E1E-A7A5-ACB66EB11D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ногогранники-какие он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ы: группа исследовател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D:\Documents and Settings\Admin\Рабочий стол\iтр.jpeg"/>
          <p:cNvPicPr/>
          <p:nvPr/>
        </p:nvPicPr>
        <p:blipFill>
          <a:blip r:embed="rId1"/>
          <a:stretch/>
        </p:blipFill>
        <p:spPr>
          <a:xfrm>
            <a:off x="1714680" y="307188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D:\Documents and Settings\Admin\Рабочий стол\ппрi.jpeg"/>
          <p:cNvPicPr/>
          <p:nvPr/>
        </p:nvPicPr>
        <p:blipFill>
          <a:blip r:embed="rId2"/>
          <a:stretch/>
        </p:blipFill>
        <p:spPr>
          <a:xfrm>
            <a:off x="6072120" y="435780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D:\Documents and Settings\Admin\Рабочий стол\i.jpeg"/>
          <p:cNvPicPr/>
          <p:nvPr/>
        </p:nvPicPr>
        <p:blipFill>
          <a:blip r:embed="rId3"/>
          <a:stretch/>
        </p:blipFill>
        <p:spPr>
          <a:xfrm>
            <a:off x="2428920" y="5000760"/>
            <a:ext cx="1434960" cy="1358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:\Documents and Settings\Admin\Рабочий стол\iпрп.jpeg"/>
          <p:cNvPicPr/>
          <p:nvPr/>
        </p:nvPicPr>
        <p:blipFill>
          <a:blip r:embed="rId4"/>
          <a:stretch/>
        </p:blipFill>
        <p:spPr>
          <a:xfrm>
            <a:off x="4071960" y="2643120"/>
            <a:ext cx="1701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азвертки: тетраэдр, куб, октаэдр, додекаэдр, икосаэд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Picture 2" descr="D:\Documents and Settings\Admin\Рабочий стол\1.gif"/>
          <p:cNvPicPr/>
          <p:nvPr/>
        </p:nvPicPr>
        <p:blipFill>
          <a:blip r:embed="rId1"/>
          <a:stretch/>
        </p:blipFill>
        <p:spPr>
          <a:xfrm>
            <a:off x="1071720" y="1500120"/>
            <a:ext cx="3286080" cy="1946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:\Documents and Settings\Admin\Рабочий стол\0.gif"/>
          <p:cNvPicPr/>
          <p:nvPr/>
        </p:nvPicPr>
        <p:blipFill>
          <a:blip r:embed="rId2"/>
          <a:stretch/>
        </p:blipFill>
        <p:spPr>
          <a:xfrm>
            <a:off x="5888160" y="1000080"/>
            <a:ext cx="3255840" cy="1928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D:\Documents and Settings\Admin\Рабочий стол\2.gif"/>
          <p:cNvPicPr/>
          <p:nvPr/>
        </p:nvPicPr>
        <p:blipFill>
          <a:blip r:embed="rId3"/>
          <a:stretch/>
        </p:blipFill>
        <p:spPr>
          <a:xfrm>
            <a:off x="1000080" y="3214800"/>
            <a:ext cx="3497400" cy="2071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D:\Documents and Settings\Admin\Рабочий стол\4.gif"/>
          <p:cNvPicPr/>
          <p:nvPr/>
        </p:nvPicPr>
        <p:blipFill>
          <a:blip r:embed="rId4"/>
          <a:stretch/>
        </p:blipFill>
        <p:spPr>
          <a:xfrm>
            <a:off x="2928960" y="4929120"/>
            <a:ext cx="3719520" cy="1928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D:\Documents and Settings\Admin\Рабочий стол\3.gif"/>
          <p:cNvPicPr/>
          <p:nvPr/>
        </p:nvPicPr>
        <p:blipFill>
          <a:blip r:embed="rId5"/>
          <a:stretch/>
        </p:blipFill>
        <p:spPr>
          <a:xfrm>
            <a:off x="5715000" y="3000240"/>
            <a:ext cx="32860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4280" y="500040"/>
          <a:ext cx="7572600" cy="5214960"/>
        </p:xfrm>
        <a:graphic>
          <a:graphicData uri="http://schemas.openxmlformats.org/drawingml/2006/table">
            <a:tbl>
              <a:tblPr/>
              <a:tblGrid>
                <a:gridCol w="1362240"/>
                <a:gridCol w="1209600"/>
                <a:gridCol w="857160"/>
                <a:gridCol w="1071720"/>
                <a:gridCol w="1709640"/>
                <a:gridCol w="136224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ногогранни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си симмет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лоскости симмет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учив виды правильных многогранников мы пришли к выводу, что существует только 5 видов правильных многограннико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следовать многогранники их виды и свой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ть основные понятия многогранни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еть их свойства и разверт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Многогранник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геометрическое тело, ограниченное со всех сторон плоскими многоугольниками, называемыми гранями. Стороны граней называются ребрами многогранника, а концы ребер — вершинами многогранника. Многогранник называется выпуклым, если он весь расположен по одну сторону от плоскости каждой из его граней. Выпуклый многогранник называется правильным, если все его грани — правильные одинаковые многоугольники и все многогранные углы при вершинах равны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6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уществует 5 видов правильных многогранников: тетраэдр, куб, октаэдр, додекаэдр, икосаэд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F:\иикто\многогранники\1.gif"/>
          <p:cNvPicPr/>
          <p:nvPr/>
        </p:nvPicPr>
        <p:blipFill>
          <a:blip r:embed="rId1"/>
          <a:stretch/>
        </p:blipFill>
        <p:spPr>
          <a:xfrm>
            <a:off x="1071720" y="2071800"/>
            <a:ext cx="1447560" cy="1218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F:\иикто\многогранники\0.gif"/>
          <p:cNvPicPr/>
          <p:nvPr/>
        </p:nvPicPr>
        <p:blipFill>
          <a:blip r:embed="rId2"/>
          <a:stretch/>
        </p:blipFill>
        <p:spPr>
          <a:xfrm>
            <a:off x="1357200" y="3857760"/>
            <a:ext cx="1771920" cy="131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F:\иикто\многогранники\2.gif"/>
          <p:cNvPicPr/>
          <p:nvPr/>
        </p:nvPicPr>
        <p:blipFill>
          <a:blip r:embed="rId3"/>
          <a:stretch/>
        </p:blipFill>
        <p:spPr>
          <a:xfrm>
            <a:off x="4000680" y="2071800"/>
            <a:ext cx="1352520" cy="1314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F:\иикто\многогранники\3.gif"/>
          <p:cNvPicPr/>
          <p:nvPr/>
        </p:nvPicPr>
        <p:blipFill>
          <a:blip r:embed="rId4"/>
          <a:stretch/>
        </p:blipFill>
        <p:spPr>
          <a:xfrm>
            <a:off x="7500960" y="2071800"/>
            <a:ext cx="1162080" cy="1314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D:\Documents and Settings\Admin\Рабочий стол\4.gif"/>
          <p:cNvPicPr/>
          <p:nvPr/>
        </p:nvPicPr>
        <p:blipFill>
          <a:blip r:embed="rId5"/>
          <a:stretch/>
        </p:blipFill>
        <p:spPr>
          <a:xfrm>
            <a:off x="5143680" y="3714840"/>
            <a:ext cx="1618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эдр - “четырехгранник” (в переводе с греческого), у него минимальное число вершин - 4, граней - 4, ребер - 6. Изображают обычно тетраэдр как четырехугольник с диагоналями, одну из которых (соответствующую невидимому ребру) изображают пунктир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тетраэдр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тр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572160" y="3714840"/>
            <a:ext cx="714600" cy="4762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3214800" y="4071960"/>
            <a:ext cx="571320" cy="635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3"/>
          <a:stretch/>
        </p:blipFill>
        <p:spPr>
          <a:xfrm>
            <a:off x="5786280" y="4572000"/>
            <a:ext cx="478080" cy="642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7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18" descr=""/>
          <p:cNvPicPr/>
          <p:nvPr/>
        </p:nvPicPr>
        <p:blipFill>
          <a:blip r:embed="rId4"/>
          <a:stretch/>
        </p:blipFill>
        <p:spPr>
          <a:xfrm>
            <a:off x="5572080" y="5143680"/>
            <a:ext cx="428760" cy="5760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0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ексаэдр (Куб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11426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составлен из шести квадратов. Каждая его вершина является вершиной трех квадра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имеет центр симметрии - центр куба, 9 осей симметрии и 9 плоскостей симмет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куб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куба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10" descr=""/>
          <p:cNvPicPr/>
          <p:nvPr/>
        </p:nvPicPr>
        <p:blipFill>
          <a:blip r:embed="rId1"/>
          <a:stretch/>
        </p:blipFill>
        <p:spPr>
          <a:xfrm>
            <a:off x="5286240" y="2714760"/>
            <a:ext cx="419400" cy="563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2" descr=""/>
          <p:cNvPicPr/>
          <p:nvPr/>
        </p:nvPicPr>
        <p:blipFill>
          <a:blip r:embed="rId2"/>
          <a:stretch/>
        </p:blipFill>
        <p:spPr>
          <a:xfrm>
            <a:off x="5214960" y="3214800"/>
            <a:ext cx="285840" cy="541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4" descr=""/>
          <p:cNvPicPr/>
          <p:nvPr/>
        </p:nvPicPr>
        <p:blipFill>
          <a:blip r:embed="rId3"/>
          <a:stretch/>
        </p:blipFill>
        <p:spPr>
          <a:xfrm>
            <a:off x="5715000" y="371484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16" descr=""/>
          <p:cNvPicPr/>
          <p:nvPr/>
        </p:nvPicPr>
        <p:blipFill>
          <a:blip r:embed="rId4"/>
          <a:stretch/>
        </p:blipFill>
        <p:spPr>
          <a:xfrm>
            <a:off x="3571920" y="4143240"/>
            <a:ext cx="3571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кт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гранник, составленный из 8 равносторонних треугольни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эдр имеет 6 вершин и 12 рёбе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D:\Documents and Settings\Admin\Рабочий стол\rad.gif"/>
          <p:cNvPicPr/>
          <p:nvPr/>
        </p:nvPicPr>
        <p:blipFill>
          <a:blip r:embed="rId1"/>
          <a:stretch/>
        </p:blipFill>
        <p:spPr>
          <a:xfrm>
            <a:off x="5500800" y="4500720"/>
            <a:ext cx="1143000" cy="6429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5643720" y="3214800"/>
            <a:ext cx="571320" cy="3808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3500280" y="3714840"/>
            <a:ext cx="571680" cy="468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4"/>
          <a:stretch/>
        </p:blipFill>
        <p:spPr>
          <a:xfrm>
            <a:off x="5715000" y="4000680"/>
            <a:ext cx="500040" cy="5680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0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дек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гранник, составленный из 12 равносторонних пятиугольников. Додекаэдр имеет 20 вершин и 30 ребер. Вершина додекаэдра является вершиной трех пятиугольников, таким образом, сумма плоских углов при каждой вершине равна 324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D:\Documents and Settings\Admin\Рабочий стол\rad1.gif"/>
          <p:cNvPicPr/>
          <p:nvPr/>
        </p:nvPicPr>
        <p:blipFill>
          <a:blip r:embed="rId1"/>
          <a:stretch/>
        </p:blipFill>
        <p:spPr>
          <a:xfrm>
            <a:off x="5929200" y="5429160"/>
            <a:ext cx="1500480" cy="785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Documents and Settings\Admin\Рабочий стол\plo.gif"/>
          <p:cNvPicPr/>
          <p:nvPr/>
        </p:nvPicPr>
        <p:blipFill>
          <a:blip r:embed="rId2"/>
          <a:stretch/>
        </p:blipFill>
        <p:spPr>
          <a:xfrm>
            <a:off x="5214960" y="4143240"/>
            <a:ext cx="204156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:\Documents and Settings\Admin\Рабочий стол\ob1.gif"/>
          <p:cNvPicPr/>
          <p:nvPr/>
        </p:nvPicPr>
        <p:blipFill>
          <a:blip r:embed="rId3"/>
          <a:stretch/>
        </p:blipFill>
        <p:spPr>
          <a:xfrm>
            <a:off x="3214800" y="4643280"/>
            <a:ext cx="1214280" cy="419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4"/>
          <a:stretch/>
        </p:blipFill>
        <p:spPr>
          <a:xfrm>
            <a:off x="5715000" y="5000760"/>
            <a:ext cx="949320" cy="514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косаэд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ыпуклый многогранник, составленный из 20 правильных треугольников. Каждая из 12 вершин икосаэдра является вершиной 5 равносторонних треугольников, поэтому сумма углов при вершине равна 300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ребер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вписанной сферы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описанной сфер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=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786280" y="3857760"/>
            <a:ext cx="500400" cy="333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3857760" y="4214880"/>
            <a:ext cx="1250640" cy="5000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3"/>
          <a:stretch/>
        </p:blipFill>
        <p:spPr>
          <a:xfrm>
            <a:off x="5786280" y="4643280"/>
            <a:ext cx="1192320" cy="5004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9" descr=""/>
          <p:cNvPicPr/>
          <p:nvPr/>
        </p:nvPicPr>
        <p:blipFill>
          <a:blip r:embed="rId4"/>
          <a:stretch/>
        </p:blipFill>
        <p:spPr>
          <a:xfrm>
            <a:off x="5715000" y="5143680"/>
            <a:ext cx="1251000" cy="500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5:02:29Z</dcterms:created>
  <dc:creator>26525</dc:creator>
  <dc:description/>
  <dc:language>en-US</dc:language>
  <cp:lastModifiedBy>Admin</cp:lastModifiedBy>
  <dcterms:modified xsi:type="dcterms:W3CDTF">2010-05-13T15:11:44Z</dcterms:modified>
  <cp:revision>23</cp:revision>
  <dc:subject/>
  <dc:title>Многогранники-какие они?</dc:title>
</cp:coreProperties>
</file>